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3480" y="486936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Intro To Pixel Shading in DX8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19280" y="552132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.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9720" y="791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7 Texture Stage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1240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11480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352680"/>
            <a:ext cx="16002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3429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8862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2743200"/>
            <a:ext cx="2057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114800"/>
            <a:ext cx="2057400" cy="1143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r / f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648320" y="31237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648320" y="33523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276720"/>
            <a:ext cx="1371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p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238880" y="380988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7 Texture Stag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Dx7-class hardware, you can’t use the “Pixel Shader” A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old dx6 &amp; dx7-style Texture Stage A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evice-&gt;SetTextureStageState( 0, D3DTSS_COLOROP, D3DTOP_MODULATE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there are two new new color op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3DTOP_MULTIPLYAD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3DTOP_LER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7-Style Multi-pass effec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teresting effects are enabled through multi-pass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3 is almost always multi-pass under D3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texture blending functionality of particular hardware is hidden, so more passes are for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typically end up burning a stage or two trying to control the look of the DOT3 effect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stance, adding ambient or per-vertex col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676520"/>
            <a:ext cx="4572000" cy="457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9720" y="791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Pixel Shading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1240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411480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1814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352680"/>
            <a:ext cx="16002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057400" y="236196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3429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8862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886200"/>
            <a:ext cx="533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352680"/>
            <a:ext cx="175248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Tex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523880"/>
            <a:ext cx="2057400" cy="1143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r / F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3623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6483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648320" y="434304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705720" y="2514600"/>
            <a:ext cx="45720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276720"/>
            <a:ext cx="1371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p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2590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828800"/>
            <a:ext cx="18288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x8 Pix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Pixel Shad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X8 Hardware will have the ability to use either the Pixel Shader API or the TextureStage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xel Shader API allows more complicated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 per-pixel refle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ent Textures ( like EMBM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ly 8 Texture Blend Ops allow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does not expose entire pixel shader or register combine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HW &amp; TextureStageStat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old TextureStageState pipeline for dx6, 7 or 8, DX8 HW will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ry available blending operation, including EMB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 Texture St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Simultaneous 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be and Volume 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Border Col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his still may be subset of what the HW is capable o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9720" y="791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Texture Stage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36232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3526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352680"/>
            <a:ext cx="16002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057400" y="3505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41148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743200"/>
            <a:ext cx="2057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14800"/>
            <a:ext cx="2057400" cy="1143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r / f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648320" y="31237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48320" y="33523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3276720"/>
            <a:ext cx="1371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p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38880" y="380988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2670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25780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57400" y="30481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44197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7432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8320" y="365724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HW &amp; Pixel Shad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66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Pixel Shader API, there are two parts to each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o 4 Texture Address Ops – Essentially here is where you say what each set of 4 texture coordinates are do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HOW the texels are fe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o 8 Texture Blending Ops – These map to the register combiners similarly to the old TextureStage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FTER the texels are fetched and filt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loopback to the Texture Address 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5T20:28:22Z</dcterms:created>
  <dc:creator>Sim Dietrich</dc:creator>
  <dc:description/>
  <dc:language>en-US</dc:language>
  <cp:lastModifiedBy>Cem Cebenoyan</cp:lastModifiedBy>
  <cp:lastPrinted>1999-07-08T00:11:36Z</cp:lastPrinted>
  <dcterms:modified xsi:type="dcterms:W3CDTF">2000-11-10T02:49:43Z</dcterms:modified>
  <cp:revision>16</cp:revision>
  <dc:subject/>
  <dc:title>Pixel Shading in DX8</dc:title>
</cp:coreProperties>
</file>